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798-C35B-4593-A87F-CE85446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9C3-1586-4C98-8AB3-62F81799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07C-6274-4F5E-9BED-A9D521AA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FEF-CD24-4583-860B-6EFD1D02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51B-975F-4E23-A9DF-106227A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D3E-BEE8-4A70-9ED4-29EBFA0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6B6-57F3-4FD6-899A-7B3A8AD0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0B5-F393-4D61-AFCB-955FA15B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656-4286-4B12-BBEF-15DF8B4B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06B-214E-47C9-ADA7-3BCF9A2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5C4-1C52-43CF-AA39-04B935A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D44-67FD-4B2B-950E-B49F55C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5EE6-2175-4A75-92BC-332926692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rfo.ru/Tutorial/html/Def_POS.htm#b_sub4" TargetMode="External"/><Relationship Id="rId2" Type="http://schemas.openxmlformats.org/officeDocument/2006/relationships/hyperlink" Target="http://www.gramota.ru/book/litnevskaya.php?part4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alibri"/>
              </a:rPr>
              <a:t>Местоимение как часть реч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3857400"/>
            <a:ext cx="45720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Авторы: Иванова Алена, Бурлаков Игорь, Савина Оля, Тимушев Миша. 6 «б» класс, Пушкинская гимназ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858080" cy="564336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е</a:t>
            </a:r>
            <a:r>
              <a:rPr b="1" lang="ru-RU" sz="3600" spc="-1" strike="noStrike">
                <a:solidFill>
                  <a:srgbClr val="003399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это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часть речи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, употребляющаяся вместо существительного, прилагательного или наречия,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не называющая предмет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, а лишь </a:t>
            </a:r>
            <a:r>
              <a:rPr b="0" lang="ru-RU" sz="3600" spc="-1" strike="noStrike" u="sng">
                <a:solidFill>
                  <a:srgbClr val="003399"/>
                </a:solidFill>
                <a:uFillTx/>
                <a:latin typeface="Calibri"/>
              </a:rPr>
              <a:t>указывающая на него</a:t>
            </a:r>
            <a:r>
              <a:rPr b="0" lang="ru-RU" sz="3600" spc="-1" strike="noStrike">
                <a:solidFill>
                  <a:srgbClr val="003399"/>
                </a:solidFill>
                <a:latin typeface="Calibri"/>
              </a:rPr>
              <a:t>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382716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Отвечают на вопросы: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то?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 сколько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акой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чей?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9" descr="images.jpeg"/>
          <p:cNvPicPr/>
          <p:nvPr/>
        </p:nvPicPr>
        <p:blipFill>
          <a:blip r:embed="rId1"/>
          <a:stretch/>
        </p:blipFill>
        <p:spPr>
          <a:xfrm>
            <a:off x="5572080" y="4714920"/>
            <a:ext cx="30909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272440" cy="14698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Местоимения делятся на 3 в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4200" y="2571480"/>
            <a:ext cx="2928960" cy="214308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существ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С т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а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>
            <a:off x="2214360" y="1999080"/>
            <a:ext cx="1643760" cy="50076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9" name="Прямая со стрелкой 6"/>
          <p:cNvCxnSpPr/>
          <p:nvPr/>
        </p:nvCxnSpPr>
        <p:spPr>
          <a:xfrm flipH="1">
            <a:off x="4785480" y="2214720"/>
            <a:ext cx="2520" cy="42912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50" name="Прямая со стрелкой 8"/>
          <p:cNvCxnSpPr/>
          <p:nvPr/>
        </p:nvCxnSpPr>
        <p:spPr>
          <a:xfrm>
            <a:off x="5500800" y="2071440"/>
            <a:ext cx="2071800" cy="57204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51" name="TextBox 9"/>
          <p:cNvSpPr/>
          <p:nvPr/>
        </p:nvSpPr>
        <p:spPr>
          <a:xfrm>
            <a:off x="3286080" y="2714760"/>
            <a:ext cx="2857680" cy="180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прилаг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ика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та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286680" y="2714760"/>
            <a:ext cx="2714400" cy="180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Calibri"/>
              </a:rPr>
              <a:t>Местоимения-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Calibri"/>
              </a:rPr>
              <a:t>ни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Местоимения  имеют такие непостоянные признаки как </a:t>
            </a:r>
            <a:r>
              <a:rPr b="1" lang="ru-RU" sz="4000" spc="-1" strike="noStrike" u="sng">
                <a:solidFill>
                  <a:srgbClr val="003399"/>
                </a:solidFill>
                <a:uFillTx/>
                <a:latin typeface="Calibri"/>
              </a:rPr>
              <a:t>падеж, число и р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я-существ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Лич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Возврат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Вопроси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Неопредел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триц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785840" y="1213920"/>
            <a:ext cx="4038840" cy="452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я-прилагательные и местоимения-числ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предели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Указ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Неопредел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Отрица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00040" y="142560"/>
            <a:ext cx="9072720" cy="57862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99"/>
                </a:solidFill>
                <a:uFillTx/>
                <a:latin typeface="Calibri"/>
              </a:rPr>
              <a:t>Местоимение в предложении может являться подлежащим, сказуемым, дополнением,  определением, обстоятельств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840" y="214200"/>
            <a:ext cx="7643880" cy="485784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alibri"/>
              </a:rPr>
              <a:t>В русском языке местоимений немного – всего 69, но без их употребления наша речь была бы скудн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Kukushkina L4.jpg"/>
          <p:cNvPicPr/>
          <p:nvPr/>
        </p:nvPicPr>
        <p:blipFill>
          <a:blip r:embed="rId1"/>
          <a:stretch/>
        </p:blipFill>
        <p:spPr>
          <a:xfrm rot="501000">
            <a:off x="5473800" y="37987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500960" cy="125568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a50"/>
                </a:solidFill>
                <a:latin typeface="Calibri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428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orfo.ru/Tutorial/html/Def_POS.htm#b_sub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www.gramota.ru/book/litnevskaya.php?part4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2:21:35Z</dcterms:created>
  <dc:creator>Admin</dc:creator>
  <dc:description/>
  <dc:language>en-US</dc:language>
  <cp:lastModifiedBy>Admin</cp:lastModifiedBy>
  <dcterms:modified xsi:type="dcterms:W3CDTF">2011-06-19T13:12:33Z</dcterms:modified>
  <cp:revision>20</cp:revision>
  <dc:subject/>
  <dc:title>Местоимение.</dc:title>
</cp:coreProperties>
</file>